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61B-7303-4617-BEDE-CAB70F75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589-256D-4368-BD74-1A9AA69F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890-DA8B-4505-86FE-6EDF46F6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3FD-0849-4993-B2AB-8FC79E76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A4F-5DAD-46F6-8921-FDE51A86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085-3A41-4E4C-ACCA-1AE418F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23D-3421-4B43-85A7-1CF1CBEA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FA5-54DB-4A28-A8D2-AF76F2AA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568-54CA-492A-B5C5-79674E34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6D7-41B4-4B9E-A759-3BE9E61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EB5-984D-4289-9B02-4F219DAE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602-C219-4523-845F-6ED4DA86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ABD8-2648-401A-B9F8-441F9635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affect of elements dissolving on the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: Monica, Kristin, and Sa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00"/>
            </a:gs>
            <a:gs pos="100000">
              <a:srgbClr val="00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rpose and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if dissolving a solute affects the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erature would decrease as the amount of solute increased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Variable, Levels, and Dependent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pendent variable is the amount of sodium chloride (g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pendent variable is the tempera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09680" y="3276720"/>
          <a:ext cx="4038480" cy="1295280"/>
        </p:xfrm>
        <a:graphic>
          <a:graphicData uri="http://schemas.openxmlformats.org/drawingml/2006/table">
            <a:tbl>
              <a:tblPr/>
              <a:tblGrid>
                <a:gridCol w="685800"/>
                <a:gridCol w="660240"/>
                <a:gridCol w="673200"/>
                <a:gridCol w="673200"/>
                <a:gridCol w="672840"/>
                <a:gridCol w="6732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s and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amount of water (50 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Styrofoam 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type of solute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temperature sens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50 mL of water, put it into a Styrofoam c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tarting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1 gram of NaCI and add it to the c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temperature after 1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hange in tempera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eps 1-5 using 2 grams, 3 grams, 4 grams and 5 gram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eps 1-5 using measurement increments of .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with N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odium_chloride_2.JPG"/>
          <p:cNvPicPr/>
          <p:nvPr/>
        </p:nvPicPr>
        <p:blipFill>
          <a:blip r:embed="rId2"/>
          <a:stretch/>
        </p:blipFill>
        <p:spPr>
          <a:xfrm>
            <a:off x="152280" y="1219320"/>
            <a:ext cx="88394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sults with C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ore Sodium Chloride was added, the temperature of the solution decrea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ore Calcium Chloride was added, the temperature of the solution increa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for sodium chloride was -.28</a:t>
            </a:r>
            <a:r>
              <a:rPr b="0" lang="en-US" sz="24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/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for calcium chloride was-+2.8</a:t>
            </a:r>
            <a:r>
              <a:rPr b="0" lang="en-US" sz="2400" spc="-1" strike="noStrike" baseline="54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id this happen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When the salt dissolves in water, all bonds break. ~Sodium Chloride bond breaks and becomes sodium and Chloride 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Water molecules that were attracted to each other break ap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Sodium and Chloride Ion are attracted to the water, and create a new b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Energy is absorbed and energy is released.  We can measure the chemical energy, by taking the temper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Chemicals absorb energy; endothermic change: decrease in temper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Chemicals lose energy; exothermic change:  increase in tempera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29:47Z</dcterms:created>
  <dc:creator>default</dc:creator>
  <dc:description/>
  <dc:language>en-US</dc:language>
  <cp:lastModifiedBy>default</cp:lastModifiedBy>
  <dcterms:modified xsi:type="dcterms:W3CDTF">2008-03-11T16:26:23Z</dcterms:modified>
  <cp:revision>4</cp:revision>
  <dc:subject/>
  <dc:title>The affect of elements dissolving on the temperature</dc:title>
</cp:coreProperties>
</file>